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5CF-31AF-4098-988D-59ED3CED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57A-3A1B-4CD3-A0D3-6038304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B69-456D-4B09-9EB6-081C016B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353-924C-4A87-8FD5-7CF3104B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957-B80E-4F40-815E-7AC04B3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8ED1-AF4C-4D24-A357-A60AEA4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7F1-C81A-463B-9B41-C35FFB1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F63-7B10-4413-A69C-04A7419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2FC2-683C-4FD0-9534-DEC5342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D274-0E88-4E2B-8A4F-66A1734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7E6F-6EC9-40FC-A0A5-54939D90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9D5-1BAB-425F-8985-14C08F1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7A03-F220-4230-B620-3026F14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0EA-336A-41A9-B7E4-055DDC7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F16-DBBA-4D04-B0C6-A1D0EC70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51A-B396-4602-9CC5-655B5261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BB7E-4358-4EB6-80C8-32F404BF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BFF-55C7-4A18-8E5E-A978C45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F8E-AC51-4803-A150-1F9C598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CF4-D1F9-4F10-8A00-0C6A6E1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A96-8ECB-4A4D-9D6F-1CB393D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935-8F4D-4606-BCF9-2C601DE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ADC-FABB-4BBC-9E01-503AEF4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36B-1140-4525-A562-24FEBA3F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FD3-6CFB-41B9-9692-AECDBB7C776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CD4B-6044-4786-8E9F-193D6D46506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vin Worl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etting is: The Canadian Wildernes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ain character is Brian. The Minor characters are Brian's Mom, Dad, The Pilot, Terry, and the pilot who rescued him right after he found the pac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ising Action is when he had a dream that the survival pack was in the pla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limax was when he got in the plane and found the Survival Pack. And got out of it and swam back to sho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solution was when he had got all of the tools and food from the Survival Pack. And had all the food and tools he had need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heme was : survival to the fine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Part was when he found the Survival Pack. And got all of the suppli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35:49Z</dcterms:created>
  <dc:creator>Windows User</dc:creator>
  <dc:description/>
  <dc:language>en-US</dc:language>
  <cp:lastModifiedBy>Windows User</cp:lastModifiedBy>
  <dcterms:modified xsi:type="dcterms:W3CDTF">2011-04-26T19:25:10Z</dcterms:modified>
  <cp:revision>8</cp:revision>
  <dc:subject/>
  <dc:title>Story Map</dc:title>
</cp:coreProperties>
</file>